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E4D-D53A-463E-A682-16EC98DB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767-6AB0-4AFA-BFAE-B6141E87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B42D6-A897-411C-99FB-7D5FF52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FB238-9B09-4731-8D95-4453A58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A0E16-C987-443F-B872-CBD5FDFE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15E43-CFC1-4BCC-95FC-4761747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E537A-1859-432B-A571-E4EEE6A5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1A701-94F0-493B-9B8F-58C90543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35E1D-7777-4DA8-99C2-A8AA012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7F277-3AE9-429B-983E-D3917B32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82BC5-B9CC-4FAB-AFEE-F6FF013E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4EE75-D8A2-440B-A879-83D98343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6BD-6423-4839-A347-D5DA35CB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BDD60-8704-498F-88C8-D5E3AC8C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CA233-ED78-47EB-9209-CDC442D9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3595B-D07C-461A-8917-77198BD9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D50AA-613D-471F-AE69-074E0D4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6C1F5-8455-447E-B30E-3090535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DC33C-919E-452F-B2E8-0B64D80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10E32-D558-4948-8ED2-B743AAE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6C21C-B900-4D54-9323-4072A5BC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FCF8D-902D-49C7-9C2F-B7E867BC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C4FA2-221E-4906-A970-84B3C292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8B8-A8E9-409C-9654-8EE3939D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73E45-91C3-4DAB-95E2-75136483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8E0C2-3B24-4D00-9FFB-C805850C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73D81-8666-4C12-8E6A-5FF36299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40C58-B0BA-4C16-ABA1-2F1CE5D7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9F670-A350-4FCB-866D-BB2FFD72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EAA19-991D-4919-A3C7-302A8D6B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B5400-6D17-44D6-99CA-2B35C7A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AF7D1-178E-4485-8707-C5DF060D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24DD8-60C3-4280-A361-8BD2AB0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EA88-F4BB-43CA-91D3-212C61B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C23-1F5C-4548-9E90-BE5FD47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57BBC-9432-4CE0-9EE2-348B89D4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6FA7E-4C1D-44D7-B882-FA5C180C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69887-CEFD-4C14-8F87-4592CC2F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1C23E-B4B5-4677-905E-4D7A555A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822F6-3E92-4318-BF6F-02A80F4D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0C049-7797-4C18-8CAE-5A1FE675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E151F-14D6-4FC1-BBF1-60F5986B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E4436-5F38-4F33-B21E-63B01AFE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911BD-4F68-4755-B7E8-0712164C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1F411-37D5-4EC4-BB9B-00990BA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13D8-1132-47EC-873D-E62E82A2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27F8F-C0F9-407B-AE0D-92FA3E0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BF628-192B-4AA5-A970-67F4CCFD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F088D-39F2-490E-92DD-7530D47C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A58A7-2FF6-4F4F-BAB1-04267172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A37DA-3A3D-4ED9-BC8F-0D6E2F71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C0F3-BE58-417A-9CDD-86E1356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7AD5-E8F6-4DD4-B981-39CC98AD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F088-FB57-4E7F-9119-0D059248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F28-3ECF-4A38-A80B-1093B7B3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164C-C7DD-4209-B586-BC7F0E9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F1A-AD60-49E4-8883-568FF137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9C2D-4A20-42C7-8D58-61730C4E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9F14-D2B0-40CD-A4D6-95DA0D6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B438-9B92-49B9-8EE4-9722D895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4EE5-A4A6-4D95-B89A-461B5794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9232-F7D5-4A27-A94B-65F92CC3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1C13-F244-4F3C-A482-14AD27CF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B644-5DDF-4BD2-BD31-F81C962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0DC2-8117-44A3-8495-4A89E83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44C4-0745-4EE6-8958-1CC51049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644E-B5FE-4E0F-99C8-E72A91A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7D4-670E-42A0-8842-C772BCD1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DDAE-D229-4C43-84A9-73159704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5052-3340-4899-A2B5-566C5E2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0823-E580-42C1-8057-EEE41B1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71FD-E5F8-4B6E-88A9-C807411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7608-AD84-431D-A65C-879D610C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4569-3809-4CB1-A082-2476AFB7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A555-EF7A-4A98-8EDE-C16BA74C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14FD-643E-41D9-9742-FA91693C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B568-B400-41CA-868B-BE8FF5A2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09A4-C75A-464B-8AE4-64EEE4E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23A-0279-4BE1-9F37-A0A8719A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D7E1-6C77-429C-B12C-4625577B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4C35-7DD6-4CD9-A196-F153938D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6AE6-E852-40FD-BC10-6FEA17D6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30393-82A5-4F27-9ECA-1557323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A86A-94CE-472C-ADCB-BF106F2F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4B98-CABE-4AB9-AA0F-49F4BF4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00BF-D78D-4021-B197-ACD011B5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B4E9-CA94-4F6C-A2CE-D9CB7234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1966-755C-4BD7-B8C5-415FF2E1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B941-4225-4290-8C18-F871A2E0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53E-9DC5-45E7-8B38-EDE127E7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E06CD-924F-4BEF-AAC1-0D2915CA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DBBD-5EC8-4FDE-8E5F-26B9160D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C67FB-8077-4A8C-ADDF-DCC5B849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CD9A-B54F-47A3-B5C6-BD8EA713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22E1-8CB1-45A5-8BEC-B588BDA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FD09B-C7C7-4821-8649-83B4447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B4E1-59D4-4BC9-9C6D-FFB66ACE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721E5-F93D-4982-A302-030BAE05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6B86D-81CD-459F-B948-BF5AE9FA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A27E0-DB41-4C10-9A93-9AA09B06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D33-0405-469F-A674-429516EA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0476-1FE8-48C7-907A-3EF98545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58E8-6F61-4C3A-98ED-D6E4F289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49E6-F345-48BA-A6CA-9FCCF7F8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B9C7C-914D-4476-A644-DB2B009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4217-9041-42B0-8F2D-4FE2D89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EC43-9DB5-4C0B-8ECC-B6D854B5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DF9E-A16F-4CD8-BE5A-C005E476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57E5-52A6-4EB8-A310-9157257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4C0DA-EAC5-487B-9E77-39EFB53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244F9-CED6-4D83-AC94-861938AC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2E9-02A7-4524-B3AF-E69AC633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6FAC-5523-4F6B-95CC-147AFF42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99F8-57FC-4672-9661-5A1A85BE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9841-D93E-4E61-A47E-DE38F78F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8D1C7-3F47-469C-A4DB-5E0D443D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12833-5D31-49EF-BE34-3202461E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1F65A-314C-4549-8881-9AB1943E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CAB7-5E80-4DD7-85C5-7DD8086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406B-DF71-41E6-8640-35FC7DA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BB74-B87C-4F3B-832F-599FB571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F93B-19E5-43F9-A320-80EEE33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F56-3814-420A-8D75-15EA59A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1707-E382-4B7D-BB28-EAA5131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52C7F-2AE3-4D8F-8A59-953F8B71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C6CE9-3918-47FC-89D7-E9FAEEB7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98648-2970-4CCE-9DA1-DFEC3933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CF98-9618-4A0E-A2F7-37809BEF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3D27C-8C3A-4C8C-8C82-979AD8D3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39399-7186-4D8B-A215-AFE2D4B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8C939-3794-464D-86C5-8E3EFC8C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03098-3FD7-4756-B258-C982866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6073F-60BF-4DFC-A31C-C23B752E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55F-7EA6-4CC9-9A47-2622805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6D8A-8DED-4A10-9F64-52593E4B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B4145-DF58-4815-A9A0-B097454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5E838-D12E-4F52-8072-04EDC10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B1CA-7FD5-4E67-BF6D-8C045E76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D8B44-20DA-4597-8C29-74A25760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6975-7DA6-4F81-81D0-71181B7F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F4A5-358C-40E8-A83E-1FEA37F3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47A3D-57AA-44BA-9FDE-26DD696D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8C1AB-465F-44C7-9613-E6853249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3FF31-AED9-41FF-9565-A01BC0D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BDBB-42A9-4A64-A55E-F5003CBBC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F79-D808-43B8-B212-6BDF93011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E250-FFBD-4E8E-8249-C6949B9A1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16ED-188D-4F26-8AFC-6E9947559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15E1-76A0-4E36-9DC4-C751238EE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6ABB-D77D-4681-A8E3-5969B8395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BCAF-2FD7-4304-A255-CBFB82E9C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D43-7617-4D47-9CF0-1BFFA4D561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284C-1B8D-447D-A53C-48B511C18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F38E-7D8B-482F-B115-8AF424A57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6734-2BD6-4264-A9D5-ECF585DB75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37D8-239A-46D3-B72D-D89132864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JUAN PONCE DE LEON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&amp; CHRISTOPHER COLUMBU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The First Explorer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Juan Ponce de Leon.jpg"/>
          <p:cNvPicPr/>
          <p:nvPr/>
        </p:nvPicPr>
        <p:blipFill>
          <a:blip r:embed="rId1"/>
          <a:stretch/>
        </p:blipFill>
        <p:spPr>
          <a:xfrm>
            <a:off x="1828800" y="34290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Christopher Colombus.jpg"/>
          <p:cNvPicPr/>
          <p:nvPr/>
        </p:nvPicPr>
        <p:blipFill>
          <a:blip r:embed="rId2"/>
          <a:stretch/>
        </p:blipFill>
        <p:spPr>
          <a:xfrm>
            <a:off x="4876920" y="3429000"/>
            <a:ext cx="20574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Christopher Columbu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1492 Christopher Columbus and his crew sailed from Spain across the Atlantic Ocea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the time, most Europeans thought it was impossible to get to Asia by sailing We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umbus knew he could get there that wa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he landed the thought he hit Asia, when really he reached North Americ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milar to Columbus’s Ship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Kortney\AppData\Local\Microsoft\Windows\Temporary Internet Files\Content.IE5\8A9IA92I\MPj02897200000[1].jpg"/>
          <p:cNvPicPr/>
          <p:nvPr/>
        </p:nvPicPr>
        <p:blipFill>
          <a:blip r:embed="rId1"/>
          <a:stretch/>
        </p:blipFill>
        <p:spPr>
          <a:xfrm>
            <a:off x="5181480" y="4419720"/>
            <a:ext cx="2971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Juan Ponce de Le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1513 Juan Ponce de Leon became the first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nquistador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 arrive to Florid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nquistad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s the Spanish word for conquero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was looking for new land and new resour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3" descr="Juan Ponce Signature.jpg"/>
          <p:cNvPicPr/>
          <p:nvPr/>
        </p:nvPicPr>
        <p:blipFill>
          <a:blip r:embed="rId1"/>
          <a:stretch/>
        </p:blipFill>
        <p:spPr>
          <a:xfrm>
            <a:off x="3657600" y="4343400"/>
            <a:ext cx="14479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Fountain of Yo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uan Ponce de Leon sailed to the New World in hopes of finding the Fountain of Yout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Fountain of Youth was said to have water that could make old people young agai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Users\Kortney\AppData\Local\Microsoft\Windows\Temporary Internet Files\Content.IE5\YEMLWLG3\MCj02373720000[1].wmf"/>
          <p:cNvPicPr/>
          <p:nvPr/>
        </p:nvPicPr>
        <p:blipFill>
          <a:blip r:embed="rId1"/>
          <a:stretch/>
        </p:blipFill>
        <p:spPr>
          <a:xfrm>
            <a:off x="3352680" y="3886200"/>
            <a:ext cx="22590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Juan Ponce de Le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nce de Leon landed on the Florida coast near the city of St. Augustin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named the land “la Florida” which means “land of the flowers” in Spanis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then sailed south around the tip of Florida to the Gulf of Mexic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Users\Kortney\AppData\Local\Microsoft\Windows\Temporary Internet Files\Content.IE5\YEMLWLG3\MCj01895890000[1].jpg"/>
          <p:cNvPicPr/>
          <p:nvPr/>
        </p:nvPicPr>
        <p:blipFill>
          <a:blip r:embed="rId1"/>
          <a:stretch/>
        </p:blipFill>
        <p:spPr>
          <a:xfrm>
            <a:off x="3276720" y="4800600"/>
            <a:ext cx="24382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Juan Ponce de Le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ral years later Ponce de Leon made another trip to Florid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wanted to build a settlement but battled with the Calusa Indians for their la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attacked the Spanish  as they began to build on their settlement and grow crop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nce de Leon was wounded and then taken to Cuba where he later died from his woun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5" descr="C:\Users\Kortney\AppData\Local\Microsoft\Windows\Temporary Internet Files\Content.IE5\8A9IA92I\MCj03596470000[1].wmf"/>
          <p:cNvPicPr/>
          <p:nvPr/>
        </p:nvPicPr>
        <p:blipFill>
          <a:blip r:embed="rId1"/>
          <a:stretch/>
        </p:blipFill>
        <p:spPr>
          <a:xfrm>
            <a:off x="6629400" y="4648320"/>
            <a:ext cx="1373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3:00:24Z</dcterms:created>
  <dc:creator>Kortney Langes</dc:creator>
  <dc:description/>
  <dc:language>en-US</dc:language>
  <cp:lastModifiedBy>Kortney Langes</cp:lastModifiedBy>
  <dcterms:modified xsi:type="dcterms:W3CDTF">2009-12-03T05:00:51Z</dcterms:modified>
  <cp:revision>13</cp:revision>
  <dc:subject/>
  <dc:title>The First Explorers</dc:title>
</cp:coreProperties>
</file>